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79C-6A9D-4916-ADDD-2E51C912FEF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34D8-97B7-48BD-827D-C1896B94F56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669-7834-4CE9-89E1-6D434CEA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F76-9F70-4E90-A932-A8B2FE3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08F-5392-4ED4-A8E4-22BBDDC8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1FF-7628-4B66-8341-7177D99E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12F-3167-419A-9536-901691CF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050-B996-474D-94D8-A1EE3D6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0CB-42E6-406E-A55F-96DAB63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93A-6CD5-4E73-8C34-EA8DEF0D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77E-BEC7-4BFA-BD80-57A22EF2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1EF-F87E-4C70-AE0E-47B5B63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D49-C326-4B78-B172-A5AB50F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8E9-3A7D-4882-AC4B-D22B33D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BE0-7D46-4878-9851-8536CECE0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hristina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an has a white co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白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895480" y="2438280"/>
            <a:ext cx="3808440" cy="28353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名字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3048120" y="2819520"/>
            <a:ext cx="3352680" cy="29462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很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Tina\AppData\Local\Microsoft\Windows\Temporary Internet Files\Content.IE5\2LPCZAGD\MCj04173700000[1].wmf"/>
          <p:cNvPicPr/>
          <p:nvPr/>
        </p:nvPicPr>
        <p:blipFill>
          <a:blip r:embed="rId1"/>
          <a:stretch/>
        </p:blipFill>
        <p:spPr>
          <a:xfrm>
            <a:off x="1981080" y="2711520"/>
            <a:ext cx="4746600" cy="414648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她喜欢看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Tina\AppData\Local\Microsoft\Windows\Temporary Internet Files\Content.IE5\2LPCZAGD\MCj04398190000[1].png"/>
          <p:cNvPicPr/>
          <p:nvPr/>
        </p:nvPicPr>
        <p:blipFill>
          <a:blip r:embed="rId2"/>
          <a:stretch/>
        </p:blipFill>
        <p:spPr>
          <a:xfrm>
            <a:off x="31240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00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总是在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1219320" y="2590920"/>
            <a:ext cx="2971800" cy="221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Tina\AppData\Local\Microsoft\Windows\Temporary Internet Files\Content.IE5\HXKIQRBL\MCj04174420000[1].wmf"/>
          <p:cNvPicPr/>
          <p:nvPr/>
        </p:nvPicPr>
        <p:blipFill>
          <a:blip r:embed="rId2"/>
          <a:stretch/>
        </p:blipFill>
        <p:spPr>
          <a:xfrm>
            <a:off x="5105520" y="2286000"/>
            <a:ext cx="296208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00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ove to play basketb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爱打篮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Tina\AppData\Local\Microsoft\Windows\Temporary Internet Files\Content.IE5\HXKIQRBL\MPj04056260000[1].jpg"/>
          <p:cNvPicPr/>
          <p:nvPr/>
        </p:nvPicPr>
        <p:blipFill>
          <a:blip r:embed="rId1"/>
          <a:stretch/>
        </p:blipFill>
        <p:spPr>
          <a:xfrm>
            <a:off x="5486400" y="1676520"/>
            <a:ext cx="3276720" cy="48974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an always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每次都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Tina\AppData\Local\Microsoft\Windows\Temporary Internet Files\Content.IE5\HXKIQRBL\MCj04108070000[1].wmf"/>
          <p:cNvPicPr/>
          <p:nvPr/>
        </p:nvPicPr>
        <p:blipFill>
          <a:blip r:embed="rId1"/>
          <a:stretch/>
        </p:blipFill>
        <p:spPr>
          <a:xfrm>
            <a:off x="2819520" y="2362320"/>
            <a:ext cx="33670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Recorded Soun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ive in c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住在山洞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Tina\AppData\Local\Microsoft\Windows\Temporary Internet Files\Content.IE5\E65Q0GRF\MPj03169140000[1]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386160"/>
          </a:xfrm>
          <a:prstGeom prst="rect">
            <a:avLst/>
          </a:prstGeom>
          <a:ln w="0">
            <a:noFill/>
          </a:ln>
        </p:spPr>
      </p:pic>
      <p:pic>
        <p:nvPicPr>
          <p:cNvPr id="125" name="Recorded Sound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Recorded Sound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00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rew up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一起长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1066680" y="2895480"/>
            <a:ext cx="3054600" cy="227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Tina\AppData\Local\Microsoft\Windows\Temporary Internet Files\Content.IE5\HXKIQRBL\MCj04174420000[1].wmf"/>
          <p:cNvPicPr/>
          <p:nvPr/>
        </p:nvPicPr>
        <p:blipFill>
          <a:blip r:embed="rId2"/>
          <a:stretch/>
        </p:blipFill>
        <p:spPr>
          <a:xfrm>
            <a:off x="5257800" y="2692440"/>
            <a:ext cx="2657520" cy="2335320"/>
          </a:xfrm>
          <a:prstGeom prst="rect">
            <a:avLst/>
          </a:prstGeom>
          <a:ln w="0">
            <a:noFill/>
          </a:ln>
        </p:spPr>
      </p:pic>
      <p:pic>
        <p:nvPicPr>
          <p:cNvPr id="131" name="Recorded Sound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00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ir parents love each o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的父母很爱对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Tina\AppData\Local\Microsoft\Windows\Temporary Internet Files\Content.IE5\E65Q0GRF\MCj04366780000[1].wmf"/>
          <p:cNvPicPr/>
          <p:nvPr/>
        </p:nvPicPr>
        <p:blipFill>
          <a:blip r:embed="rId1"/>
          <a:stretch/>
        </p:blipFill>
        <p:spPr>
          <a:xfrm>
            <a:off x="2666880" y="2438280"/>
            <a:ext cx="3276720" cy="385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Tina\AppData\Local\Microsoft\Windows\Temporary Internet Files\Content.IE5\2LPCZAGD\MCj04241300000[1].wmf"/>
          <p:cNvPicPr/>
          <p:nvPr/>
        </p:nvPicPr>
        <p:blipFill>
          <a:blip r:embed="rId2"/>
          <a:stretch/>
        </p:blipFill>
        <p:spPr>
          <a:xfrm>
            <a:off x="4952880" y="2438280"/>
            <a:ext cx="3492720" cy="2368800"/>
          </a:xfrm>
          <a:prstGeom prst="rect">
            <a:avLst/>
          </a:prstGeom>
          <a:ln w="0">
            <a:noFill/>
          </a:ln>
        </p:spPr>
      </p:pic>
      <p:pic>
        <p:nvPicPr>
          <p:cNvPr id="137" name="Recorded Sound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Recorded Sound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00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a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一个老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971800" y="2743200"/>
            <a:ext cx="3732120" cy="277812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ha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en good friends for awhi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Tina\AppData\Local\Microsoft\Windows\Temporary Internet Files\Content.IE5\2LPCZAGD\MCj04241300000[1].wmf"/>
          <p:cNvPicPr/>
          <p:nvPr/>
        </p:nvPicPr>
        <p:blipFill>
          <a:blip r:embed="rId1"/>
          <a:stretch/>
        </p:blipFill>
        <p:spPr>
          <a:xfrm>
            <a:off x="4495680" y="2514600"/>
            <a:ext cx="3678480" cy="249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Tina\AppData\Local\Microsoft\Windows\Temporary Internet Files\Content.IE5\E65Q0GRF\MCj04366780000[1].wmf"/>
          <p:cNvPicPr/>
          <p:nvPr/>
        </p:nvPicPr>
        <p:blipFill>
          <a:blip r:embed="rId2"/>
          <a:stretch/>
        </p:blipFill>
        <p:spPr>
          <a:xfrm>
            <a:off x="914400" y="2362320"/>
            <a:ext cx="2514600" cy="2955960"/>
          </a:xfrm>
          <a:prstGeom prst="rect">
            <a:avLst/>
          </a:prstGeom>
          <a:ln w="0">
            <a:noFill/>
          </a:ln>
        </p:spPr>
      </p:pic>
      <p:pic>
        <p:nvPicPr>
          <p:cNvPr id="142" name="Recorded Sound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Recorded Sound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7"/>
          <p:cNvSpPr/>
          <p:nvPr/>
        </p:nvSpPr>
        <p:spPr>
          <a:xfrm>
            <a:off x="312408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们是很久的好朋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0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they do is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们只会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Tina\AppData\Local\Microsoft\Windows\Temporary Internet Files\Content.IE5\HXKIQRBL\MPj04393050000[1].jpg"/>
          <p:cNvPicPr/>
          <p:nvPr/>
        </p:nvPicPr>
        <p:blipFill>
          <a:blip r:embed="rId1"/>
          <a:stretch/>
        </p:blipFill>
        <p:spPr>
          <a:xfrm>
            <a:off x="3581280" y="182880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148" name="Recorded Sound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Recorded Sound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00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Br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名字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Tina\AppData\Local\Microsoft\Windows\Temporary Internet Files\Content.IE5\YG0A0D0P\MCj04366800000[1].wmf"/>
          <p:cNvPicPr/>
          <p:nvPr/>
        </p:nvPicPr>
        <p:blipFill>
          <a:blip r:embed="rId1"/>
          <a:stretch/>
        </p:blipFill>
        <p:spPr>
          <a:xfrm>
            <a:off x="2362320" y="2438280"/>
            <a:ext cx="3808440" cy="28353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力气很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Tina\AppData\Local\Microsoft\Windows\Temporary Internet Files\Content.IE5\E65Q0GRF\MCj04174180000[1].wmf"/>
          <p:cNvPicPr/>
          <p:nvPr/>
        </p:nvPicPr>
        <p:blipFill>
          <a:blip r:embed="rId1"/>
          <a:stretch/>
        </p:blipFill>
        <p:spPr>
          <a:xfrm>
            <a:off x="3048120" y="1828800"/>
            <a:ext cx="30574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00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ikes to eat tootsie roll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喜欢吃糖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ina\AppData\Local\Microsoft\Windows\Temporary Internet Files\Content.IE5\E65Q0GRF\MCj04362080000[1].png"/>
          <p:cNvPicPr/>
          <p:nvPr/>
        </p:nvPicPr>
        <p:blipFill>
          <a:blip r:embed="rId1"/>
          <a:stretch/>
        </p:blipFill>
        <p:spPr>
          <a:xfrm>
            <a:off x="2971800" y="2590920"/>
            <a:ext cx="3276720" cy="20700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ikes to rea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喜欢读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Tina\AppData\Local\Microsoft\Windows\Temporary Internet Files\Content.IE5\2LPCZAGD\MCj04379900000[1].wmf"/>
          <p:cNvPicPr/>
          <p:nvPr/>
        </p:nvPicPr>
        <p:blipFill>
          <a:blip r:embed="rId1"/>
          <a:stretch/>
        </p:blipFill>
        <p:spPr>
          <a:xfrm>
            <a:off x="2666880" y="2362320"/>
            <a:ext cx="3727440" cy="355104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s one fri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他有一个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5105520" y="2209680"/>
            <a:ext cx="3379680" cy="297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Tina\AppData\Local\Microsoft\Windows\Temporary Internet Files\Content.IE5\YG0A0D0P\MCj04366800000[1].wmf"/>
          <p:cNvPicPr/>
          <p:nvPr/>
        </p:nvPicPr>
        <p:blipFill>
          <a:blip r:embed="rId2"/>
          <a:stretch/>
        </p:blipFill>
        <p:spPr>
          <a:xfrm>
            <a:off x="1752480" y="2590920"/>
            <a:ext cx="3054600" cy="227304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990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4"/>
          <a:stretch/>
        </p:blipFill>
        <p:spPr>
          <a:xfrm>
            <a:off x="-13716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3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also a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也是老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3200400" y="2133720"/>
            <a:ext cx="3728880" cy="327636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762120" y="-5335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00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has an orange f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有橘黄色的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Tina\AppData\Local\Microsoft\Windows\Temporary Internet Files\Content.IE5\HXKIQRBL\MCj04174420000[1].wmf"/>
          <p:cNvPicPr/>
          <p:nvPr/>
        </p:nvPicPr>
        <p:blipFill>
          <a:blip r:embed="rId1"/>
          <a:stretch/>
        </p:blipFill>
        <p:spPr>
          <a:xfrm>
            <a:off x="2819520" y="2438280"/>
            <a:ext cx="3271680" cy="287496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8:33:20Z</dcterms:created>
  <dc:creator>Tina</dc:creator>
  <dc:description/>
  <dc:language>en-US</dc:language>
  <cp:lastModifiedBy>itsuser</cp:lastModifiedBy>
  <dcterms:modified xsi:type="dcterms:W3CDTF">2009-05-05T14:33:22Z</dcterms:modified>
  <cp:revision>16</cp:revision>
  <dc:subject/>
  <dc:title>Tigers</dc:title>
</cp:coreProperties>
</file>